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7.png" ContentType="image/png"/>
  <Override PartName="/ppt/media/image16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15.gif" ContentType="image/gif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BFD8-5E02-4FEE-9144-4D776F7E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8E68-B4DC-469D-8335-BCA18E7C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5BBF-8C82-43CE-B61F-8786856D2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277F-FB00-42F6-8CC8-A1B18D800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0724-5782-4D46-A275-895A6D83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C044-DA8F-4D24-AAD7-3FD46E83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E960-94AF-4BF5-BCAE-DE18C44C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9ECD-F423-42FF-AD13-9C500C4E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B241-42D2-4415-88BC-11405502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1C2D-A9CA-4D2E-84C5-1BB726AB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1224-97AD-4BDB-BB6B-F2322A2F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1316-4006-40F7-9187-E28E801F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BC24-6ADC-4BA7-88D8-25246566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446C-64CE-4B63-824F-5F914D6D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0786-40D8-4F71-B3E9-6FABE553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C51D-AB29-4F40-A37A-2593C135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C14C-F607-4C31-BB4C-3853A780F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46A8-50B7-41EE-A331-2A19A952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539D-95B5-448E-8FB8-52CDFDD5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EF38-6CED-43F6-8C72-9768DE03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FB66-AF9C-4CDA-920F-361EB9E9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3659-AAF1-4A5F-96BB-C07E8C95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6D2D-FA86-4F61-B537-D4357E7A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812C-DEB6-4EC1-8F31-7EB5619B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aztecchamber.com/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90A7-B6C2-42A1-942F-083684906C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380880" y="6172200"/>
            <a:ext cx="1752840" cy="53640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1520" y="6095880"/>
            <a:ext cx="1438200" cy="61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2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6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1640-B6F4-4460-8EC7-4F03908C86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ztecchamber.com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mailto:chris@cornerstoneresults.com" TargetMode="External"/><Relationship Id="rId3" Type="http://schemas.openxmlformats.org/officeDocument/2006/relationships/hyperlink" Target="http://www.cornerstoneresults.com/" TargetMode="External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6858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0033"/>
                </a:solidFill>
                <a:latin typeface="Times New Roman"/>
              </a:rPr>
              <a:t>Filing </a:t>
            </a:r>
            <a:br>
              <a:rPr sz="4800"/>
            </a:b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Literally &amp; Virtually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 to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tec Chamber of 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8600" y="6095880"/>
            <a:ext cx="1752480" cy="536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91520" y="6095880"/>
            <a:ext cx="1438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Literal Filing Proces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3537000" cy="2738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685800" y="5029200"/>
            <a:ext cx="75913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e Filing Software at Cornerstone Business Solutions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800600" y="2743200"/>
            <a:ext cx="3019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 Secret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fade thruBlk="true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mead Viewab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6553080" cy="3133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952880" y="297180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Printer &amp; End Resul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irtual Fil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drives </a:t>
            </a:r>
            <a:r>
              <a:rPr b="0" i="1" lang="en-US" sz="2400" spc="-1" strike="noStrike">
                <a:solidFill>
                  <a:srgbClr val="990033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le cabi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documents can and should be inde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about the Properties field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demonst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consistent and documented schem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41400" y="1828800"/>
            <a:ext cx="2813040" cy="3051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ternet Fil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800240" y="2286000"/>
            <a:ext cx="3962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Favorites and Folders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am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roup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 up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219320" y="3021120"/>
            <a:ext cx="3504960" cy="2408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rganize &amp; Sort IE 6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3" name="" descr="Add Favorite box"/>
          <p:cNvPicPr/>
          <p:nvPr/>
        </p:nvPicPr>
        <p:blipFill>
          <a:blip r:embed="rId1"/>
          <a:stretch/>
        </p:blipFill>
        <p:spPr>
          <a:xfrm>
            <a:off x="1143000" y="1905120"/>
            <a:ext cx="2743200" cy="1927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Favorites menu"/>
          <p:cNvPicPr/>
          <p:nvPr/>
        </p:nvPicPr>
        <p:blipFill>
          <a:blip r:embed="rId2"/>
          <a:stretch/>
        </p:blipFill>
        <p:spPr>
          <a:xfrm>
            <a:off x="4572000" y="4137120"/>
            <a:ext cx="2505240" cy="2378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343400" y="2057400"/>
            <a:ext cx="39625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phabetize Your Favor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your list of Favorites gets unruly, you can put it in alphabetical ord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-click anywhere on the Favorites menu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menu that opens, click Sort by Name. See step 2 in the image below. Internet Explorer lists folders first (if you have them), and then individual Web pages in the main lis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rap-U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because you have to in order to meet compliance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because you can make money by access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about how someone else will use the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, Test,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up and don’t FTI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Fail To Impl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or Further Inform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943600" y="2743200"/>
            <a:ext cx="2811600" cy="2811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219320" y="2438280"/>
            <a:ext cx="38862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 H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rstone Busines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05) 325-4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chris@cornerstoneresult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www.cornerstoneresult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gend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480" y="2057040"/>
            <a:ext cx="38102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Bother Fil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l F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F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F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257800" y="2743200"/>
            <a:ext cx="2811600" cy="28116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y Bother Filing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ing is done for two reas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ianc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ing mon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mpliance Fil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sary business records that assist in understanding the financial picture of the business for purpos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x prepa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ing with the CPA and Ba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essing the status of current business relationshi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iling to Make Mone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Lot More F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2590920" cy="1784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200400" y="4114800"/>
            <a:ext cx="5715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Focuses on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Focuses on Products &amp;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Focuses on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iteral Fil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Other Users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Your Filing Organization Scheme on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Yourself a Cabinet &amp; Syst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Deviate from the Syst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the “Radar O’Reilly and Max Klinger tra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iteral Fil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5943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About Other Users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would you like to find things?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it logical and scalable?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st, Test, T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, avoid the “Radar O’Reilly and Max Klinger tra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975360" y="3429000"/>
            <a:ext cx="1981440" cy="2666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Literal Filing Proces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2427480" cy="3235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380880" y="5181480"/>
            <a:ext cx="8458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e Cabinet at Cornerstone Business Solution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Literal Filing Proces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3314520" cy="4419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3656160" cy="2741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380880" y="5029200"/>
            <a:ext cx="441036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e System at 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rnerstone Business Solutions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17:50:31Z</dcterms:created>
  <dc:creator>Chris Hunter</dc:creator>
  <dc:description>Created for seminar on January 29 2004</dc:description>
  <dc:language>en-US</dc:language>
  <cp:lastModifiedBy>Chris Hunter</cp:lastModifiedBy>
  <dcterms:modified xsi:type="dcterms:W3CDTF">2004-10-17T00:56:37Z</dcterms:modified>
  <cp:revision>15</cp:revision>
  <dc:subject>Cornerstone Presentations</dc:subject>
  <dc:title>Filing  Literally &amp; Virtually</dc:title>
</cp:coreProperties>
</file>