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7.wmf" ContentType="image/x-wmf"/>
  <Override PartName="/ppt/media/image29.gif" ContentType="image/gif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12.gif" ContentType="image/gif"/>
  <Override PartName="/ppt/media/image30.gif" ContentType="image/gif"/>
  <Override PartName="/ppt/media/image11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7.wmf" ContentType="image/x-wmf"/>
  <Override PartName="/ppt/media/image33.gif" ContentType="image/gif"/>
  <Override PartName="/ppt/media/image9.wmf" ContentType="image/x-wmf"/>
  <Override PartName="/ppt/media/image35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3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BE2EA-4EAC-4A30-B105-AE68C23F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B7BDC-3D56-470C-8CF2-256E9C39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F1BD4-244D-440F-B9E5-BD950769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20582-2713-4519-AF84-D8B766D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EBACE-C6C6-4F0F-AD20-29B6C3D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55D06-44CC-4D8A-B6F9-3D64092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2AF8C-DC21-4512-9E7D-A838F13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28562-A9B4-471D-8A17-5309576A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C1B2F-6E3F-40F2-937A-D6FE2F3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46590-78E1-4EEA-B362-BCF72D2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620E1-5D37-4251-AF35-529911E5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16D020-337B-4D85-904D-8C519070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4640" y="152280"/>
            <a:ext cx="0" cy="15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247644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491240" y="2992320"/>
            <a:ext cx="1339560" cy="2187360"/>
            <a:chOff x="7491240" y="2992320"/>
            <a:chExt cx="1339560" cy="2187360"/>
          </a:xfrm>
        </p:grpSpPr>
        <p:sp>
          <p:nvSpPr>
            <p:cNvPr id="79" name=""/>
            <p:cNvSpPr/>
            <p:nvPr/>
          </p:nvSpPr>
          <p:spPr>
            <a:xfrm>
              <a:off x="74912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56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600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12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56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00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440" y="327636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12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56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00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44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29200" y="356004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1240" y="3842640"/>
              <a:ext cx="20160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56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00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4440" y="3842640"/>
              <a:ext cx="20160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12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56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00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44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29200" y="412632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1240" y="441072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56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00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4440" y="441072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12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56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00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44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56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44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920" y="2820960"/>
            <a:ext cx="823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5956200"/>
            <a:ext cx="2476440" cy="758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172200" y="5943600"/>
            <a:ext cx="256536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3DAE-B7A9-4005-87E3-BD0355592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Thoughts Worth  Pondering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 pays to plan ahead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It wasn’t raining when Noah built the ark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sure that incentive compensation is linked to performance over which the beneficiaries have contro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5334120" y="2743200"/>
            <a:ext cx="3520800" cy="3623760"/>
            <a:chOff x="5334120" y="2743200"/>
            <a:chExt cx="3520800" cy="3623760"/>
          </a:xfrm>
        </p:grpSpPr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5943600" y="3777480"/>
              <a:ext cx="237960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334120" y="2743200"/>
              <a:ext cx="3520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0042e"/>
                  </a:solidFill>
                  <a:latin typeface="Georgia"/>
                </a:rPr>
                <a:t>SYSTEMS &amp; PROCESSES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be good chemistry for profi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267080" y="838080"/>
            <a:ext cx="43419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improve the chemistry of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42e"/>
                </a:solidFill>
                <a:latin typeface="Georgia"/>
              </a:rPr>
              <a:t>SYSTEMS &amp;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96 -0.14758 L -0.34236 -0.09923 C -0.41788 -0.07749 -0.52344 -0.11982 -0.53177 -0.17696 L -0.55243 -0.30418 E">
                                      <p:cBhvr>
                                        <p:cTn id="794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uper achieving service companies are imbued with the belief that profits come from providing genuine valu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77960" y="1677600"/>
            <a:ext cx="40370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sh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loo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lood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lif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32884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403704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You cannot cut your way to prosperity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 flipH="1">
            <a:off x="1295280" y="4419720"/>
            <a:ext cx="905040" cy="903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-0.09931 L 0.23385 -0.16598 E">
                                      <p:cBhvr>
                                        <p:cTn id="827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best businesses manage debt wisely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403848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age the pennies and the dollars will take care of themselv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5132520" y="1600200"/>
            <a:ext cx="251604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34960" y="4191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 will help you understand wha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all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89548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2623E-006 L 0.17084 -4.22623E-006 C 0.24723 -4.22623E-006 0.34167 -0.09183 0.34167 -0.16655 L 0.34167 -0.3331 E">
                                      <p:cBhvr>
                                        <p:cTn id="83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in doubt, remember cash is king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not the mountain that we conquer, but ourselv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r Edmund Hillary, First to Climb Mt. Ever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vide customers with awesome service and the money will follow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The ultimate purpose of a business is to build equity valu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ood financial records can translate into a higher multiple when it comes time to sel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486400" y="396396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219320" y="1371600"/>
            <a:ext cx="48765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planning means you don’t have to break your ban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help you with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Key Performance Indicator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What gets measured, gets don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095880" y="608040"/>
            <a:ext cx="2286000" cy="703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57200" y="160020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increase the value of your business by showing you how to measure and moni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KEY PERFORMANCE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040" y="403704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1249E-006 L 0.57448 -0.0007 E">
                                      <p:cBhvr>
                                        <p:cTn id="870" dur="3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You miss 100 percent of the shots you never tak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yne Gretzk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ever retreat in the face of difficulti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dvance as conditions permi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conditions don’t permit, create those condi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adershi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direction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potential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a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success of a compan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future belongs to people who see possibilities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they become obvious.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flipH="1">
            <a:off x="1677600" y="2362320"/>
            <a:ext cx="2492280" cy="24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48320" y="243828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lead you through a disciplined process to define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y not go out on a limb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n’t that where the fruit i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blems are those things we see when we take our eyes off the goa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rut is a grave with both ends knocked ou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940040" y="1397160"/>
          <a:ext cx="52639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1397160"/>
                    <a:ext cx="5263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cannot become what we need to be by remaining what we a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know what happens to people who stay in the middle of the road; they get run ov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2225880" cy="230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37040" y="2362320"/>
            <a:ext cx="358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rategy allows you to capture  opportunities.  Cornerstone can help you plan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munication is the most important source of personal pow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8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Jack Welch’s Six Ru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ace reality as it is, not as it was or as you wish it to b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 candid with everyon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on’t manage, lea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ange before you have t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f you don’t have a competitive advantage, don’t compet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ol your own destiny, or someone else wil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3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02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chieve real empowerment and improve morale, follow three basic ste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Find out what people are thinking, what they believe the problems in the company are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et them design the solution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Get out of the way and let them put their solutions into practice.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greatest mistake we make is living in constant fear that we will make on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4120" y="19051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llows you to outsmart the competition.  Let Cornerstone show you h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4951440" cy="388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629400" y="4927680"/>
            <a:ext cx="172728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You either organize or you agoniz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r. Ed Meyers, Pasto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 Baptist Church, Farming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ision adds value to everything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You are either working </a:t>
            </a:r>
            <a:r>
              <a:rPr b="1" i="1" lang="en-US" sz="3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1" i="1" lang="en-US" sz="3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1" i="1" lang="en-US" sz="3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ll me,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forge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how me,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rememb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volve me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understand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o Tzu, 500 B.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s your business controlling you or are you controlling your business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at we can measure, we can manage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5562720"/>
            <a:ext cx="2363760" cy="723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1219320"/>
            <a:ext cx="3962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ood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 Structur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the key to allowing you to work </a:t>
            </a:r>
            <a:r>
              <a:rPr b="1" i="1" lang="en-US" sz="1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not just </a:t>
            </a:r>
            <a:r>
              <a:rPr b="1" i="1" lang="en-US" sz="1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be your partner in bringing structure to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>
            <a:off x="5029200" y="2209680"/>
            <a:ext cx="2517840" cy="2762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more closely a company’s work force mirrors its customer base, the more effectively it will be able to design and sell its produc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nk of yourself as a customer.  Identify with your clientel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he sale is a courtship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good the marriage is depends on how well the seller maintains the relationship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best – and cheapest – way to keep customers satisfied is to serve them well from the start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 there is no vision, the people peris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erbs 29:1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isten to customers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y’re quite willing to say what kind of service they want and to rate the service they’re getting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urning away a complainer by telling him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It’s our policy’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rages him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’s the corporate equivalent of your parents saying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Because I said so.’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ustomers tell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imes as many people about bad experiences as good on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106960" y="1981080"/>
            <a:ext cx="3568680" cy="3213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8600" y="22096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boost your 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e0042e"/>
                </a:solidFill>
                <a:latin typeface="Georgia"/>
              </a:rPr>
              <a:t>MARKETING &amp; SALES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oductivity with the world-class customer service training of the RAN ONE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selling services people buy what they think they are going to ge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tch up w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ink, with the produc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you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deliver an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dd some to exceed expectation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4000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are looking for a big opportunity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seek out a big problem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nytime you let up, expect a let down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00486E-006 L 0.00017 0.2068 E">
                                      <p:cBhvr>
                                        <p:cTn id="422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en companies make their customers happy, they make their employees happy too.  Improvements in customer satisfaction lead directly to higher employee retentio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3583080" cy="110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80880" y="1066680"/>
            <a:ext cx="5715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analyze the profitability of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RODUCTS &amp;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 identify your greatest opportun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17560"/>
            <a:ext cx="84582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 small businesses are non-profit organizations.  They don’t plan it that way.  It’s just the way things end up.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Owner of the Australia Bird Compan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The world’s largest pet bird store in Melbourne Australi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791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you’re through changing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you’re through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finition of Insanity . .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lieving you can keep doing what you’ve been doing and get different resul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employees information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y can’t feel in control of circumstances if they lack it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 not only use all the brains I have, but all I can borrow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oodrow Wilson,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581640" cy="3197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4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of Cornerstone Business Solutions can help your team measure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3047760" cy="935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96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who never do any more than they get paid for, never get paid for any more than they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bert Hubb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sentially there are two actions in life.  Performance and excuses.  Make a decision as to which you will accept for yourself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phen Br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cellence is the gradual result of always striving to do better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t Rile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wonderful when the people believe in their leader;  it’s more wonderful when the leader believes in th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challenge so big or audacious that it can seem scary even to the person who conceived it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ome purpose higher than the everyday getting and spending of commer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ople are your only appreciable asse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3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you think you can, you can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if you think you can’t, you’re righ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ry Kay Ash, CEO of Mary Kay Cosmeti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35784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1932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help you make sense of your 0rganiz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133720"/>
            <a:ext cx="3810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 the right job for the right reason with the right compensat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y business that pays equal rewards to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will, sooner or later, find itself with more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an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liberation is the work of many me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on, of one alone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rles DeGaul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are like rubber bands:  They must be stretched to be effectiv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really need in a service business is people who lik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 Petro,  Consultant, Booz-Allen Hamilt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key to making a high-commitment organization work is mutual trust between top executives and employe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7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least stressed employees are those who are working flat out on some task t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elected – something they really love to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don’t now survey employee attitudes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find will identify problems before they become cris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You can’t build a reputation on what you’re going to do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nry Fo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 things an executive should never deleg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lecting the te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nitoring their effor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tiv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valu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ward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302080" y="1751040"/>
            <a:ext cx="2786400" cy="4148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1447920"/>
            <a:ext cx="5181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will unlock the potential of your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124080"/>
            <a:ext cx="3200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has the system you’ve been looking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820960" y="4191120"/>
            <a:ext cx="1204920" cy="1177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One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The team observes and monitors th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leader’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ation of culture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Two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You ar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alway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ing cultu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f you are not managing culture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 is managing you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Innovate or evaporat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t it be known that risk takers won’t be penalized for new ideas that fail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ke clear to one and all that the future of the enterprise rests on a willingness to experiment, to push in new and untested direc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Make sure your door is really open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EOs can’t recall employees ever abusing an open-door policy:  They don’t walk through it unless they really have t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274320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porat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CULTUR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either an asset or 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ch is it for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220760" cy="1190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7400" cy="36795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69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2133720"/>
            <a:ext cx="44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rnerstone Business Solutions can help you sharpen your business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53496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795840" cy="268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w an unqualified willingness to accept a variety of opinions and integrate them into your management sty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tablish regular times when people know they can come to see you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tter yet, go to their offices and talk with them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e the financial interests of the higher-ups and lower-downs closer together by making exposure to risk and reward more equitab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don’t treat your own people well, they won’t treat other people well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rb Kelleher, CEO, Southwest Airlin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was the last time you did something for the first time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ifficulties mastered are opportunities w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323040" y="4294080"/>
            <a:ext cx="2363760" cy="230688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04920" y="3352680"/>
            <a:ext cx="4572000" cy="3308400"/>
            <a:chOff x="304920" y="3352680"/>
            <a:chExt cx="4572000" cy="330840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762120" y="3352680"/>
              <a:ext cx="3657600" cy="2431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6" name=""/>
            <p:cNvSpPr/>
            <p:nvPr/>
          </p:nvSpPr>
          <p:spPr>
            <a:xfrm>
              <a:off x="304920" y="60184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A healthy corporate </a:t>
              </a:r>
              <a:r>
                <a:rPr b="0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1751040"/>
            <a:ext cx="2820600" cy="2319840"/>
            <a:chOff x="4572000" y="1751040"/>
            <a:chExt cx="2820600" cy="23198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4647960" y="1751040"/>
              <a:ext cx="2668680" cy="15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572000" y="3428280"/>
              <a:ext cx="28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give rise to healthy profit growt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5321 L -0.00417 -0.22438 E">
                                      <p:cBhvr>
                                        <p:cTn id="73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One cannot leap a chasm in two jumps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gress always involves risks.  You can’t steal second and keep your foot on first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derick Wilco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bove all, try something!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lin Delano Roosevelt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938240" y="1397160"/>
          <a:ext cx="52675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1397160"/>
                    <a:ext cx="5267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something has been done a particular way for 15 to 20 years, it’s a pretty good sign in these changing times that it is being done the wrong wa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liot M. W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st people are more comfortable with old problems than they are with new solu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re are a lot of ways to become a failure, but never taking a chance is the most successfu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chievers are not only persistent, they are also hard workers who believe in themselv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othy L. Griffi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Not all change leads to improvement, but you cannot improve without changing.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stlessness is discontent – and discontent is the first necessity of progress.  Show me a thoroughly satisfied man – and I will show you a failur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omas Alva Ed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2360" cy="79524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1066680" y="1238400"/>
            <a:ext cx="6705720" cy="1652760"/>
            <a:chOff x="1066680" y="1238400"/>
            <a:chExt cx="6705720" cy="1652760"/>
          </a:xfrm>
        </p:grpSpPr>
        <p:sp>
          <p:nvSpPr>
            <p:cNvPr id="420" name=""/>
            <p:cNvSpPr/>
            <p:nvPr/>
          </p:nvSpPr>
          <p:spPr>
            <a:xfrm>
              <a:off x="5105520" y="1425600"/>
              <a:ext cx="2666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The right corporate </a:t>
              </a:r>
              <a:r>
                <a:rPr b="1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will get your team pulling togeth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1066680" y="1238400"/>
              <a:ext cx="3353040" cy="129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4000"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0317 L 0.15 0.43627 E">
                                      <p:cBhvr>
                                        <p:cTn id="76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have to undo a 100-year-old concept and convince our managers that their role is not to control people and ‘stay on top’ of things, but rather to guide, energize and excit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ck Welch, Chairman and CEO of General Electr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and Proces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We first form habi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n habits form u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19:10Z</dcterms:created>
  <dc:creator>CMH</dc:creator>
  <dc:description/>
  <dc:language>en-US</dc:language>
  <cp:lastModifiedBy>Chris Hunter</cp:lastModifiedBy>
  <dcterms:modified xsi:type="dcterms:W3CDTF">2002-11-01T23:30:23Z</dcterms:modified>
  <cp:revision>181</cp:revision>
  <dc:subject/>
  <dc:title>Slide 1</dc:title>
</cp:coreProperties>
</file>