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36D-753A-4697-A362-0502B85B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242-B08C-4450-A046-8048928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627-3D1C-420A-A9B8-3DACD241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72F-8A50-42BE-9EB2-AC7FEFF6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D7F5-E07C-4CD8-BAD1-D0DC35F1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D429-5C16-4A03-9C7C-82D2FC5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65B-54FC-4A18-BC30-4FC7A3F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0F43-8353-4C98-B2E6-8F2F973D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779F-D8F6-4E70-A8DA-5D334D3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5DEC-E7CB-4BCC-A4B0-584ADEF5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D7C3-96B4-402E-9671-C3DC630D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1EE-7A38-4B0C-BEE5-7CE23581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1079-69AE-49BC-AA9D-76F02CE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26D8-6F9F-4AB4-8920-33C9F4A5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87A4-631E-4713-AF98-7598EDEF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F52B-9746-4AD9-84A2-5E2F2CDC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5B10-2ED0-42D4-99CC-D5F779FA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DED-6F56-462F-B782-54C824F0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21B-15EE-4145-8EEC-D95219D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3B8-8131-4F0A-AE6C-3DC7EDA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1C4-EEE0-4004-B9D7-ABD90D44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AB6-6548-4A60-B152-11852CB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0B4-3550-4AE2-A4C6-8FA6176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468-104E-4215-9113-097DBF8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1B67-507D-4C7E-AE7A-5C556E07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934320" y="6172200"/>
            <a:ext cx="15332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6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928-BE71-4758-8737-A5A9B6A64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alliancestrategy.com/" TargetMode="External"/><Relationship Id="rId3" Type="http://schemas.openxmlformats.org/officeDocument/2006/relationships/hyperlink" Target="http://www.alliancestrategy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liancestrategy.com/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alliancestrategy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trategic Allian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s to Think About Them, Ways to Work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172200" y="5743440"/>
            <a:ext cx="2676600" cy="8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vkf0k0f_[1]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133360" cy="20113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200400" y="1523880"/>
            <a:ext cx="311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bliograph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izing a New Strategic Alli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eter K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2"/>
          </p:cNvPr>
          <p:cNvSpPr/>
          <p:nvPr/>
        </p:nvSpPr>
        <p:spPr>
          <a:xfrm>
            <a:off x="2667600" y="3660840"/>
            <a:ext cx="37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5d093"/>
                </a:solidFill>
                <a:uFillTx/>
                <a:latin typeface="Arial"/>
                <a:hlinkClick r:id="rId3"/>
              </a:rPr>
              <a:t>www.alliancestrateg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finition of Alli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34600" y="2101680"/>
            <a:ext cx="7903800" cy="1557000"/>
            <a:chOff x="534600" y="2101680"/>
            <a:chExt cx="7903800" cy="1557000"/>
          </a:xfrm>
        </p:grpSpPr>
        <p:sp>
          <p:nvSpPr>
            <p:cNvPr id="331" name=""/>
            <p:cNvSpPr/>
            <p:nvPr/>
          </p:nvSpPr>
          <p:spPr>
            <a:xfrm>
              <a:off x="534600" y="3016080"/>
              <a:ext cx="171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Arm’s</a:t>
              </a: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Leng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b374"/>
                  </a:solidFill>
                  <a:latin typeface="Arial"/>
                </a:rPr>
                <a:t>Con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11000" y="3016080"/>
              <a:ext cx="142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erger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cqui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2101680"/>
              <a:ext cx="5257800" cy="990720"/>
            </a:xfrm>
            <a:prstGeom prst="leftRightArrow">
              <a:avLst>
                <a:gd name="adj1" fmla="val 50000"/>
                <a:gd name="adj2" fmla="val 10564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30160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5858b"/>
                  </a:solidFill>
                  <a:latin typeface="Arial"/>
                </a:rPr>
                <a:t>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600200" y="3794040"/>
            <a:ext cx="6400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value by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combining capabilitie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separate firm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share contro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lang="en-US" sz="2000" spc="-1" strike="noStrike">
                <a:solidFill>
                  <a:srgbClr val="35858b"/>
                </a:solidFill>
                <a:latin typeface="Arial"/>
              </a:rPr>
              <a:t>“open-ended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omplet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617220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B. Gomes-Casseres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5d093"/>
                </a:solidFill>
                <a:uFillTx/>
                <a:latin typeface="Arial"/>
                <a:hlinkClick r:id="rId1"/>
              </a:rPr>
              <a:t>www.alliancesstrate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Alliance = A Way to Manage “Incompleteness”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905120"/>
            <a:ext cx="2514600" cy="685800"/>
          </a:xfrm>
          <a:prstGeom prst="rect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plet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f_hhlz1f[1]" descr=""/>
          <p:cNvPicPr/>
          <p:nvPr/>
        </p:nvPicPr>
        <p:blipFill>
          <a:blip r:embed="rId1"/>
          <a:stretch/>
        </p:blipFill>
        <p:spPr>
          <a:xfrm>
            <a:off x="4429080" y="3429000"/>
            <a:ext cx="362160" cy="490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657600" y="4648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502920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41008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5791320"/>
            <a:ext cx="1752840" cy="533160"/>
          </a:xfrm>
          <a:prstGeom prst="roundRect">
            <a:avLst>
              <a:gd name="adj" fmla="val 16667"/>
            </a:avLst>
          </a:prstGeom>
          <a:solidFill>
            <a:srgbClr val="ffcc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64640" y="3352680"/>
            <a:ext cx="7673040" cy="642600"/>
            <a:chOff x="764640" y="3352680"/>
            <a:chExt cx="7673040" cy="642600"/>
          </a:xfrm>
        </p:grpSpPr>
        <p:sp>
          <p:nvSpPr>
            <p:cNvPr id="345" name=""/>
            <p:cNvSpPr/>
            <p:nvPr/>
          </p:nvSpPr>
          <p:spPr>
            <a:xfrm>
              <a:off x="2819520" y="358128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4876560" y="358092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4640" y="335268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foresee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rnal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4520" y="3352680"/>
              <a:ext cx="188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forese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nternal Ev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495680" y="2742840"/>
            <a:ext cx="1427400" cy="609480"/>
            <a:chOff x="4495680" y="2742840"/>
            <a:chExt cx="1427400" cy="609480"/>
          </a:xfrm>
        </p:grpSpPr>
        <p:sp>
          <p:nvSpPr>
            <p:cNvPr id="350" name=""/>
            <p:cNvSpPr/>
            <p:nvPr/>
          </p:nvSpPr>
          <p:spPr>
            <a:xfrm flipV="1">
              <a:off x="4495680" y="2742480"/>
              <a:ext cx="228600" cy="609480"/>
            </a:xfrm>
            <a:prstGeom prst="upArrow">
              <a:avLst>
                <a:gd name="adj1" fmla="val 50000"/>
                <a:gd name="adj2" fmla="val 6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02040" y="28195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495680" y="3962160"/>
            <a:ext cx="1427400" cy="609480"/>
            <a:chOff x="4495680" y="3962160"/>
            <a:chExt cx="1427400" cy="609480"/>
          </a:xfrm>
        </p:grpSpPr>
        <p:sp>
          <p:nvSpPr>
            <p:cNvPr id="353" name=""/>
            <p:cNvSpPr/>
            <p:nvPr/>
          </p:nvSpPr>
          <p:spPr>
            <a:xfrm flipV="1">
              <a:off x="4495680" y="3961800"/>
              <a:ext cx="228600" cy="609480"/>
            </a:xfrm>
            <a:prstGeom prst="upArrow">
              <a:avLst>
                <a:gd name="adj1" fmla="val 50000"/>
                <a:gd name="adj2" fmla="val 666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2040" y="403848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80880" y="6172200"/>
            <a:ext cx="38102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B. Gomes-Casseres 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e5d093"/>
                </a:solidFill>
                <a:uFillTx/>
                <a:latin typeface="Arial"/>
                <a:hlinkClick r:id="rId2"/>
              </a:rPr>
              <a:t>www.alliancesstrategy.c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makes them and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etting it Righ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6743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Clarify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we ne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lo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alliance the best way to get what we need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Design the al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ype of alliance should we crea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our role b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858b"/>
                </a:solidFill>
                <a:latin typeface="Tahoma"/>
              </a:rPr>
              <a:t>Manage after the Deal is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effectively manage the alli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build tru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sible Objectiv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enter new marke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reate new technology and set new industry standa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ape consolid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clear on motives and make sure they are positive all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ositive Motiv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harness the partner’s energy and knowled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et an industry standard by involving partn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learn somet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gain economies of sca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duce ri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gain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signing the Alli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28440" y="28954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b374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51760" y="2895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1981080"/>
            <a:ext cx="5257800" cy="990720"/>
          </a:xfrm>
          <a:prstGeom prst="leftRightArrow">
            <a:avLst>
              <a:gd name="adj1" fmla="val 50000"/>
              <a:gd name="adj2" fmla="val 10564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2895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858b"/>
                </a:solidFill>
                <a:latin typeface="Arial"/>
              </a:rPr>
              <a:t>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352680"/>
            <a:ext cx="2286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cense agre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marketing deals (e.g. airline allian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77120" y="3643200"/>
            <a:ext cx="228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t ven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09480" y="4800600"/>
            <a:ext cx="7543800" cy="1015920"/>
            <a:chOff x="609480" y="4800600"/>
            <a:chExt cx="7543800" cy="1015920"/>
          </a:xfrm>
        </p:grpSpPr>
        <p:sp>
          <p:nvSpPr>
            <p:cNvPr id="371" name=""/>
            <p:cNvSpPr/>
            <p:nvPr/>
          </p:nvSpPr>
          <p:spPr>
            <a:xfrm>
              <a:off x="609480" y="4800600"/>
              <a:ext cx="259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374"/>
                  </a:solidFill>
                  <a:latin typeface="Arial"/>
                </a:rPr>
                <a:t>Shallo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b374"/>
                  </a:solidFill>
                  <a:latin typeface="Arial"/>
                </a:rPr>
                <a:t>Traveling L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62720" y="4800600"/>
              <a:ext cx="2590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eep Allian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mmi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ey Ques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formally assessed the aims and benefits of the strategic allia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es the alliance fit with your overall commercial strateg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needs to be informed of the alliance and whe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sought the advice of professional advis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ey Ques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you taken time to understand the target and the commercial implica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what extent should the alliance be integrated into your busines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will lead thi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you have a fully costed and resourced plan for managing the alliance?  What are the targets and success criteria for the allian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4:07:44Z</dcterms:created>
  <dc:creator>Chris Hunter</dc:creator>
  <dc:description/>
  <dc:language>en-US</dc:language>
  <cp:lastModifiedBy>Chris Hunter</cp:lastModifiedBy>
  <dcterms:modified xsi:type="dcterms:W3CDTF">2004-10-17T02:49:41Z</dcterms:modified>
  <cp:revision>25</cp:revision>
  <dc:subject/>
  <dc:title>Strategic Alliances - Ways to Think About Them, Ways to Work Them</dc:title>
</cp:coreProperties>
</file>